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F28-A504-46B4-BCCD-D0A75481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BB3-A654-4605-B8E4-4531632A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76533-894F-4F1C-ACEB-5F473459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0F49B-FA40-42C9-A13F-E263BBA8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7E252-5287-41DF-AD31-5051BD83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D4C65-B579-466C-A95D-05D71B4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8D4E8-9E10-4A0F-9CF9-90C0D862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DF007-1D54-48D4-9A36-8EE590D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2A7A3-1A4F-4045-9B20-18045A77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766B9-324A-414F-BF85-0666D10E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D5729-B238-460D-ADED-8465D18E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F9EB1-08DD-4BA2-A131-802B6050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E64-9D56-49A1-811A-2DA85854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EC415-D5C7-4475-B5F2-9FE9E4A6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4222E-8492-4129-977E-DB0B0C7A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32279-5207-477A-B2C0-75BFF3A1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E91D8-258B-42BF-AA11-CEE80DBC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EA195-F655-4F0C-A073-05890539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778A5-0508-4FCE-8601-1B459B1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7379E-F0D4-42D8-969A-D6C2D80F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3D860-D48C-4D25-B487-5E5D2D8C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A2FFA-FF90-4723-AF40-7BFDFF53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2AFE2-87CD-42A3-917E-979A39FD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FC1-76B3-41F6-A072-42E3AD2E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1C516-7689-48AE-9A47-1EB024DB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2FCE2-0C52-4A41-905D-F804B195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7FAAA-5987-4237-A59C-69BA31E0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4D659-E361-4590-9D25-2F783851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FA2C5-9BCE-4DD6-9CDE-EE08448E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A7A52-994E-4F9B-8205-FF377297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C55E6-B1E2-42FB-9AAF-D5BA59E0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CD8B3-2C4D-4D98-A1FA-6C74E32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2AE80-188F-455B-8965-EF298E7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FE478-5F12-4C1D-865D-E17BF622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042B-F810-48BB-9677-21FC6F38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67A4F-2B55-4A57-990F-92B82BBE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2FA1E-E6BC-4F56-AC20-5CD5E1D1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517AA-3030-437C-B8BD-535D9562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EB1CB-0A14-4F9D-9EAF-5D9BD3CF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15F0F-3D15-4937-A2E1-38C5B61A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667F5-1DCA-4108-A215-52E23322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63822-6F08-4EA4-93FC-53F4508D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67C2D-A8FE-4823-BD1A-771582BB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D8319-5ACC-4D8E-99A4-0ED626D9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60571-C24D-4334-AB10-CCBB5F31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A657-021D-4DD8-93EA-2BD00074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FA0AC-F2E3-4C71-8E08-A1B8013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A0BC5-7496-40A0-8F1F-CB55825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432ED-7AB8-4429-A924-AFF59792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1EFB6-5472-4F69-8879-3B705076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1113A-A716-41B0-A6AD-E557F8BF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133F-BD75-4D83-8D99-8C677212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91D6-8714-4400-9C99-C1BC6234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1120-2DB3-425E-97EF-7208E0C0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9987-2A9D-4A9C-9725-DEE07889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EBA7-4195-4762-82A1-F884E6BB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699-3961-4AAF-ADD8-25C220F4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573F-0E9D-455E-AAD7-8828CBE5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A27D-C185-4686-943C-FEC6B00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FF34-E6AF-4655-9652-19F2C261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3B9E-A507-4635-BB77-8C0F4822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11FE-DFB1-4E76-B55D-C8D769A9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8B1B-93F8-44DE-8F18-21E3280D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11B8-0961-4F18-99ED-C1FE37A2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4D42-BF8A-469B-A013-1A0B8BAA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B179-9F6C-4BFE-9202-4E84C8E6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6CA3-0619-4361-A328-0951D59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006-44D5-4536-A739-3468EF77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F438-9F5F-4D1B-9043-447478AE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C549-0AF1-4664-8246-C9FA676E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A22A-5BAF-45BE-A446-E6D5087F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33A6-E535-413F-8A95-2C5633F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7813-463E-4C21-AEFC-0CF24852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6F46-A226-4489-839C-FBEA026F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5AB4-96E4-45B2-ADA5-BD7F374B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9CFD-360D-4209-A1CD-91CFA6F1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281F6-BFB6-4D5F-85D2-D33AE51F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78D4-611A-40ED-A9F3-22D8CBD9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F9F-C27F-4E65-A984-0E09FBE5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7ACBD-A54D-46A2-8ADF-D8C53FD9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3FE6-20EE-4A2D-92A4-A8DAD1B1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238D-1C24-4E81-BEDA-CE411167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E0A16-11AE-4083-96B6-9DBBE1B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B9CAA-D6A9-4382-83A5-CF3902C8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6C40-BC55-49F9-9171-DB700C9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8666-5340-4B7F-B581-5152BEC5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E2CA-687C-4A80-A57C-06C8B153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5A18-E4FC-49C4-9973-E9B9E069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7DAA-40C9-4EC3-9B24-9B19102E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77E-EDC1-4B3A-AC6E-7C20FC9F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D28F-263F-4931-8C29-D9120815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9EAB7-1A49-4470-809C-0D51BDDC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ED302-DBCF-4F3D-95E2-1E27503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B9C8-8BFE-4CC6-8B30-A4576F10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64110-4820-43BE-9EDD-5BA9B46D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5A29-DE99-4BCB-991C-E46017D7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1491A-8685-4799-9C2D-7E1EC7BB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48E8-30A2-40EB-853A-66CE97A3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2057E-6490-4D93-AFA3-E09D03B1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9049-E7F1-4254-9BC2-6F239B22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801-2309-422F-8C38-0660FA9C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095AC-2967-4FE6-B9CF-C6125056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11300-684D-4722-BA0E-99C67155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A716-5EA7-4F57-A4C0-BF2AECD3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0EB64-14FB-455B-8145-A15863A4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8BDF-8C0A-4DCB-9119-58B9CB58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561BF-E4BC-494E-84D2-E2A40231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A0106-F2E7-47D2-BCD5-40FBE542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1215E-7AF4-42CA-B881-F9B6ADA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DEF0-99F8-4E3B-8EBA-8B300618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0D0BA-3D56-41FB-9186-8AB431DC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DE3-4B0D-4478-88E7-3966A069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BD7D9-F74F-44C8-98E5-73BD86FC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16FB0-69A2-41ED-8FE7-3CEE17BE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BA11B-5A38-42A3-AD9B-35E9474F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A8FD9-3092-43EA-932B-04BC219C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8D16A-1BDB-4C49-BFF6-F4EFEBB8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8AED7-7E6B-4BF7-BA48-D8A843C0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79558-5F99-4FA7-B486-76EB8B89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A5987-CCC6-45CD-8C66-7D68C3E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6AFD1-E401-4FAD-B7A7-400D4A47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73EB-27EC-497C-B725-C448A79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5B9-3A2C-4645-985D-9096B2CB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67F79-30B0-4426-A58F-DBF597E2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FA085-7792-4B4D-A002-E12EBED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0CAAD-D859-47E6-BDD2-1BCDA644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58332-A130-465F-9BBF-9383F82A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E7B3E-7B8B-4222-A829-FCA2EB82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C1832-EE87-47EB-9B66-C59389F3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DB55C-0AAB-41B5-A2F4-3821E7C6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FC65C-74B9-4ECE-8C04-0339330D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A1524-B55E-473D-BCAE-C367102F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3742-E709-4E41-A18C-456FE4E4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9E8-CA28-4AC0-879C-5C0FF75D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612B5-7581-4522-9CBD-101ACE4A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E7A0F-4EFC-4C4D-B48E-088A9659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4E18C-EB45-4899-97B2-125B4C7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3E69-DAC1-4488-84C3-E39B5010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BC03-5631-4F77-94B7-2B30ED66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57910-71CF-4F85-98CA-90961A7B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8817D-BACD-412D-A751-39C57DF8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CB6E0-3C04-49C2-8B7A-7439809A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F63D4-0FBB-49EE-A25D-D6B292EF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0743D-4F59-46B4-B3FC-5A744EA3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E848-78A7-4C4B-AD87-9AD8213F33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1115-06E3-4247-813C-7AD264CC72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5591-8AA3-4D3B-80A8-C5E107DF0B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DD9-9018-436F-9318-7D0EDDF66C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94C3-26B5-47B0-962B-B472154DB7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C71-A420-476C-9E61-016EFD5A37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5FC2-E311-46F3-8325-AC31D9ED20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0B1C-AF23-4CB4-AEB0-A14B9D07DA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2082-6530-409F-A4C9-839E5AAB98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D5BE-1642-4A86-89F3-2B0422A4F0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05D0-ACA5-4834-B499-FDFD1C2E87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3100-1DB6-40FC-AAF2-183F626AFF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9 Môj Pán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ôj Pán žije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z výšin on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a skláňa i dne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áskavo k 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yť s ním túžb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o môj je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rád by domov som 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ôj Pán o mne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ňa rád veľmi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z lásky moje hriechy on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lkám, odpo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sť síl mi d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on je Pán môj a 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ôj Pán vráti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 krátky už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o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lov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ľúbil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ž blízko je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príde z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vládu prevezme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05:12Z</dcterms:modified>
  <cp:revision>24</cp:revision>
  <dc:subject/>
  <dc:title>Je veľký náš Pán, on slávy je Kráľ Nech do všetkých strán  spev vrúcnych znie chvál.</dc:title>
</cp:coreProperties>
</file>